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gif" ContentType="image/gif"/>
  <Override PartName="/ppt/media/image3.png" ContentType="image/png"/>
  <Override PartName="/ppt/media/5th%20Grader%20Short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FF72-A2C3-4C4B-AB39-81D12B926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EF59-5C1A-4130-8EC5-86BF9ABE42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1685-4B15-4704-8CC8-688AA27A75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5F46-2AFF-4F0D-8D79-7B5284CE43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F244-BA65-42F1-A913-6FE70AB1FE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B684-41D9-4A51-AE80-DBD2ED865B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F2AA-A022-4D1D-8738-D4CF133648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6C73-F401-4922-A6E2-B868B29C7D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F223-CD19-4F09-8925-172EA3A25E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42A7-B1EF-4C49-9A90-43DE44FEDC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DE69-4B91-4F7F-ADBC-62F549A4DC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4C87-91C3-41FF-9DBA-56BAAB9E20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C575-3813-47C3-A935-B5E84FD8AD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76C4-2EB0-4125-9F00-F81F6040D8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B22F-1C6A-4B33-8BE7-040B6469BE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05A0-5025-405D-BE36-7071305845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A059-5D23-4DF0-867D-8968F9C74F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298C-1824-4031-AE05-2F1C5005CD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94F7-0F57-4886-B8AF-81AFC354BD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27C6-570D-45A0-A922-7DEEA686CD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524C-FF0C-49F1-A65C-10091FE49B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B7D2-FEF4-4A16-AA2C-A958747923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D1FD-4AD2-4F12-B57D-40F33376F5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6CF2-70E7-4F46-A509-0F2770A653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9446-F2C7-4DF7-B424-2F1CBC5469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559C-532B-421E-BAEF-D6199F9186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E393-6EDC-4463-9684-958D21A46F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DD98-8386-4773-91E3-8C7A37C166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1751-352D-48E4-B521-18C8F15BB3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D34B-F6F2-4198-8378-88F1CC2C2D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A049-066D-4F38-8502-B794B832D4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23FC-4320-4298-925E-160EEAF7FF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D5E8-955A-4312-BED5-293930C953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E2BC-EF72-452C-901F-9F84D368CF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BDA1-B85F-4A20-8B59-EE44F2C384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010F-F44F-470A-A678-A769A57E1C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FDE0-D045-46FC-8205-B99778424E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607A-DB3E-4BE8-BF0E-CCD4AAC0CC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042B-2D10-4513-83F1-C85EE2B9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9A5E-F91F-42FF-A681-EDEA443D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996C-E101-4817-A7CA-50EC9BD9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5164-4157-46B8-81B0-B32626F5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359F-4123-4DC4-A2D1-9EFBFF0D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C37-D345-420E-8605-3C666214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A217-CB36-4C48-A297-40B9C608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6B4E-EA2D-49A4-A5DF-4B6CB4B7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B843-3651-4882-93D4-854BF740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BF69-5CEA-4B7D-A3D8-09E3D720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0A19-026C-40A9-A865-3AEA162B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E1AE-33D8-49AC-9521-DF955C8D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486E-40F6-4DB8-8E76-054509CBF5B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10.xml"/><Relationship Id="rId5" Type="http://schemas.openxmlformats.org/officeDocument/2006/relationships/slide" Target="slide13.xml"/><Relationship Id="rId6" Type="http://schemas.openxmlformats.org/officeDocument/2006/relationships/slide" Target="slide16.xml"/><Relationship Id="rId7" Type="http://schemas.openxmlformats.org/officeDocument/2006/relationships/slide" Target="slide19.xml"/><Relationship Id="rId8" Type="http://schemas.openxmlformats.org/officeDocument/2006/relationships/slide" Target="slide22.xml"/><Relationship Id="rId9" Type="http://schemas.openxmlformats.org/officeDocument/2006/relationships/slide" Target="slide25.xml"/><Relationship Id="rId10" Type="http://schemas.openxmlformats.org/officeDocument/2006/relationships/slide" Target="slide28.xml"/><Relationship Id="rId11" Type="http://schemas.openxmlformats.org/officeDocument/2006/relationships/slide" Target="slide31.xml"/><Relationship Id="rId12" Type="http://schemas.openxmlformats.org/officeDocument/2006/relationships/slide" Target="slide3.xml"/><Relationship Id="rId13" Type="http://schemas.openxmlformats.org/officeDocument/2006/relationships/slide" Target="slide3.xml"/><Relationship Id="rId14" Type="http://schemas.openxmlformats.org/officeDocument/2006/relationships/slide" Target="slide3.xml"/><Relationship Id="rId15" Type="http://schemas.openxmlformats.org/officeDocument/2006/relationships/slide" Target="slide3.xml"/><Relationship Id="rId16" Type="http://schemas.openxmlformats.org/officeDocument/2006/relationships/slide" Target="slide3.xml"/><Relationship Id="rId17" Type="http://schemas.openxmlformats.org/officeDocument/2006/relationships/slide" Target="slide3.xml"/><Relationship Id="rId18" Type="http://schemas.openxmlformats.org/officeDocument/2006/relationships/slide" Target="slide3.xml"/><Relationship Id="rId19" Type="http://schemas.openxmlformats.org/officeDocument/2006/relationships/slide" Target="slide3.xml"/><Relationship Id="rId20" Type="http://schemas.openxmlformats.org/officeDocument/2006/relationships/slide" Target="slide3.xml"/><Relationship Id="rId21" Type="http://schemas.openxmlformats.org/officeDocument/2006/relationships/slide" Target="slide3.xml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5thGrader"/>
          <p:cNvPicPr/>
          <p:nvPr/>
        </p:nvPicPr>
        <p:blipFill>
          <a:blip r:embed="rId1"/>
          <a:stretch/>
        </p:blipFill>
        <p:spPr>
          <a:xfrm>
            <a:off x="2209680" y="0"/>
            <a:ext cx="4648320" cy="360360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6" descr=""/>
          <p:cNvPicPr/>
          <p:nvPr/>
        </p:nvPicPr>
        <p:blipFill>
          <a:blip r:embed="rId2"/>
          <a:stretch/>
        </p:blipFill>
        <p:spPr>
          <a:xfrm>
            <a:off x="438120" y="2987640"/>
            <a:ext cx="7962840" cy="371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Grade Social Studies 3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rue or False: Is a forest a natural resource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Grade Social Studies 3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True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Grade MISC 4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not a primary colo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l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ello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re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Grade MISC 4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Green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Grade Science 5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ich usually has more babie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ig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ephan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ear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Grade Science 5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Pigs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Grade Grammar 6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ich is a proper Noun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ll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e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ree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2nd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1" name="Picture 4" descr="5thGrader"/>
          <p:cNvPicPr/>
          <p:nvPr/>
        </p:nvPicPr>
        <p:blipFill>
          <a:blip r:embed="rId1"/>
          <a:stretch/>
        </p:blipFill>
        <p:spPr>
          <a:xfrm>
            <a:off x="0" y="0"/>
            <a:ext cx="1600200" cy="129528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152280" y="15238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rade e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Grade Grammar 6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Sally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Kindergarten Math 7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number comes after 8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,2,3,4,5,6,7,8,_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Kindergarten MISC 8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month starts the beginning of the yea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Kindergarten MISC 8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January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re-K Music 9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animal did Mary hav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ry had little _____, little _____,little_____, Mary had a little _____, its fleece was white as snow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4" name="Picture 5" descr="C:\Users\sama614\AppData\Local\Microsoft\Windows\Temporary Internet Files\Content.IE5\3VGWG10Z\MCj03970380000[1].wmf"/>
          <p:cNvPicPr/>
          <p:nvPr/>
        </p:nvPicPr>
        <p:blipFill>
          <a:blip r:embed="rId1"/>
          <a:stretch/>
        </p:blipFill>
        <p:spPr>
          <a:xfrm>
            <a:off x="762120" y="3276720"/>
            <a:ext cx="8935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re- K Music 9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LAMB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500"/>
            </a:gs>
            <a:gs pos="50000">
              <a:srgbClr val="408000"/>
            </a:gs>
            <a:gs pos="100000">
              <a:srgbClr val="03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nd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2nd Grade Geography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2nd Grade Math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2nd Grade Social Studies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2nd Grade MISC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1st Grade Science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1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1st Grade Grammar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Kindergarten Math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Kindergarten MISC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14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Pre-K Music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Pre-K English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1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3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4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25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26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7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28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29">
            <a:hlinkClick r:id="rId21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re K English 1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, B, C, D, E, F, G are all apart of what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re K English Topic 1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The Alphabet</a:t>
            </a:r>
            <a:endParaRPr b="0" lang="en-US" sz="8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Grade Health 1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ncer is a disease that makes cells grow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bnormall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owl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enig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o tissu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Abnormally</a:t>
            </a:r>
            <a:endParaRPr b="0" lang="en-US" sz="8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Grade Geography 1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ich is not apart of the 7 continen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fric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urop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nd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uth Americ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Grade Geography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London</a:t>
            </a:r>
            <a:endParaRPr b="0" lang="en-US" sz="8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AutoShape 4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Grade Math 2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7 meters= ____c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Grade Math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700 cm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sama614</cp:lastModifiedBy>
  <dcterms:modified xsi:type="dcterms:W3CDTF">2009-12-11T05:51:43Z</dcterms:modified>
  <cp:revision>59</cp:revision>
  <dc:subject/>
  <dc:title>Are You Smarter  Than a 5th Grader?</dc:title>
</cp:coreProperties>
</file>